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F2E63-096A-4692-B8FF-2500FAD7F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9C6D2-0852-4B0C-A7B1-5E75CBDB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05A32-AA58-45FB-B0A4-4A499CD27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42020-EA34-419A-AD24-1F14A4A7D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A41B-A620-4F30-9432-59EDA4892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20AB-A31E-494F-89AB-937AE3FA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62E3-4077-4613-8B09-C5DCF62E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9E3F-363B-4DF8-9D2F-5979ED44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4DD0-A1C1-449D-8DFB-4E58E0C9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753B-D01A-4016-9106-A040FB10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C487-D572-4108-8B04-25A6CCAA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7E608-7A8F-4AB2-9D2E-D9159A2F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7936-49CF-4B83-A708-17BF613F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1C27-302F-47C5-A70B-976825A6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1D9E-5EA2-4CFD-99CF-1A7E7AA5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3431-F953-4253-AE68-E945DB66C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7EFD-F40D-4B7C-903D-C48D56394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E3E0C-88D1-4C91-88D8-E31E3637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3E8D9-67B4-41FA-BD70-6CC222FD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7B530-E04D-48B7-BFB5-142F2798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F553A-9005-453C-BC92-2C538285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FA2BC-26C3-4787-BDA5-F5983320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28098-D143-4328-A459-617A0469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70137-8E2F-4852-BDEE-100A2F59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8CB2-4B0B-4A38-BB34-A7D57379120B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6F4E-AA39-406C-BDFF-F4D4EBB66091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08000" y="801000"/>
            <a:ext cx="8928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90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235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Агнеца от трон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стъгдата на Сион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ече водата жива –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пасение за вс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Към водата на живот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е стремя навек!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1793160"/>
            <a:ext cx="89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лаженство, вечна радост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 и небесна сладос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ва тоз извор чуден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хвала на Бога наш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За водата на живот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з ще пея в век!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1793160"/>
            <a:ext cx="89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Извор на целени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носиш ми спасени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грях ме Ти умиваш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правиш ме блаж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От водата на живот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з ще пия в век! :]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1-30T08:34:57Z</dcterms:modified>
  <cp:revision>66</cp:revision>
  <dc:subject/>
  <dc:title>Slide 1</dc:title>
</cp:coreProperties>
</file>